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ct" ContentType="image/x-pict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FCCC-6135-415F-A2D3-9A93418E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C5CD-F893-44D7-A0DC-FFF771AE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AE8A-12DD-434F-8E33-D9C2F445D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6BEE-0732-4C16-831F-12FDE62A8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C4B3-5543-4938-8FCA-D25F2BCA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F726-FF54-49E2-B24D-32763027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DA47-A994-468C-BF2D-3B0AF1AA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0BC0-C2BB-454F-B976-0188B657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28EA-604C-4E1C-94CF-4855119A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E53A-B0A5-4013-87ED-F4F6DF6D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A4BB-2AA3-498F-B193-0C25B67A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A5C6-C207-4B22-8730-F3356702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12B3-11AB-4A39-8C1C-99D1B51E13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9718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Nina"/>
              </a:rPr>
              <a:t>EEX 6759 Transition Planning and Interdisciplinary Teaming for Students with Disabilities – Summer 2011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900"/>
                </a:solidFill>
                <a:latin typeface="Nina"/>
              </a:rPr>
              <a:t>Saturday, June 11, 201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4" descr="MPj04285650000[1]"/>
          <p:cNvPicPr/>
          <p:nvPr/>
        </p:nvPicPr>
        <p:blipFill>
          <a:blip r:embed="rId1"/>
          <a:stretch/>
        </p:blipFill>
        <p:spPr>
          <a:xfrm>
            <a:off x="1295280" y="380880"/>
            <a:ext cx="685800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Continuity from Birth to 8 years – Key Elements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962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milies as Part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red Leadership (school, family, communit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rehensive &amp; Responsive Serv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lture and Home Langu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3962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un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ledge and Skill Develo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ropriate Care &amp; Edu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aluation of Partnership Suc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Elementary Consider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ecific needs of the individual (IEP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ability specific iss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ng-Term Projections (Communication, Self Determination, Skills of Independence, etc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 preferen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l Education Curricu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R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8320" y="19810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8320" y="41144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Elementary to Middle Schoo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vironmental differen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ectations cha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inuum of care cha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 n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ganizational n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tential Safety iss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41144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9810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Middle School to High Schoo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of the same issues in Elementary to Middle – just a more intense experi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s should be on a TIE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s will have made a special v/s standard diploma cho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Helpful Teacher Resource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ttp://www.ihdi.uky.edu/ktcp/materials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Kentucky Transition Collabor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chool to Work Program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*Are programs designed to assist students with disabilities in transitioning from school to work/higher educatio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- (Adapted from FL.-DOE, 200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por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ing Arrang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ily Living Ski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ization/Leisure Activ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o my student(s) need to lear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should I teach in regard to transitio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can I tie in transition outcomes to educational standard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can I best work with outside agencies to provide more transition-based opportunities for my student(s)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can I contact for assistance with the transition proces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(Adapted from Wehmen &amp; Thoma, 200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hool to Work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-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s to As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hool to Work -Support Syste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ssroom Teac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cationally-based Teac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ool Administrators (Counselo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ployments Special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side Service Provi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b Coach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milies of the individu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Vocational Rehabilitation - Florid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http://www.rehabworks.org/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chool to Work</a:t>
            </a: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Basic Checklist (14-15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rn more about your dis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icipate in Transition Plan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rn to set goals for your fu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rn what transition planning means for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high school diploma op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gin researching career choices/opportun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y out volunteer or part-time work experien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ck on school employment-based progra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(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V.R.-FL. DOE, 200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IDEA – Part C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gram for Infants and Toddlers – ages birth to 36 month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ch State – designated “lead” Agency (Florida - Early Steps/Children’s Medical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place to address developmental delays – proactive s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chool to Work 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Basic Checklist (16-17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ite outside agencies to IEP Meet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transportation needs/op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medical/psychological care resources (if necessar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post-high school living arrang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post-high school training op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y for additional outside agency assistance (as need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(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V.R.-FL. DOE, 200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chool to Work</a:t>
            </a: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Basic Checklist (18-22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ider applying for SSI/SSDI benefits, if appropri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dress guardianship issues/n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Males) Register for Selective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 with outside agencies to help explore/find community employment/educational opportunities (post-high schoo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(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V.R.-FL. DOE, 200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hool to Work Prepa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ach Occupational, Life, and Social Skill sets, along with academic-related cont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quire about appropriate contacts (at your schoo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ke referrals to appropriate outside agencies, if applic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te families into process/pl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ocate duties as applicable– don’t try to do it all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hool to Work Follow Alo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sess, assess, assess (data driven), per the individual’s IEP plan/go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hedule time to meet with individual students (possibly famili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rk closely with the team (families, school-based staff, and/or outside agencies, if applicabl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REMEMB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Success of the individual is the bottom l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chool to Work or Postsecondary Education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d numbers of students w/disabilities are entering postsecondary education to obtain further skills and knowledge as a result of a combination of legislative, academic, and social chan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(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ilson, 1996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at do students need to know how to do to prepare for postsecondary education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documentation of Dis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assessment in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am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oca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ision Ma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ition Planning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achers Can….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lp set career go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about supports and services at colle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of assistive technology, if necessa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lf-Management Ski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to build a network of 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(Gretzel &amp; Briel, 200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hool to Work Progr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School-to-work is 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about finding somet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in life you love so mu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you’d do it for free, b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you learn to do it 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well you get paid for it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—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W stu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e Public Forum Institut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2000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b5481"/>
                </a:solidFill>
                <a:latin typeface="Tahoma"/>
              </a:rPr>
              <a:t>Critical Domains of Transition Instruction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Community particip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Daily l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Employ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Finan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Heal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Independent l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Leisure/recre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Post-secondary edu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Relationship/social ski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Transportation/mo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Vocational tra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5ffff"/>
                </a:solidFill>
                <a:latin typeface="Tahoma"/>
              </a:rPr>
              <a:t>Writing a sound Objective: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ed to specify relevant and necessary dimensions of behavior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Identify the Topograph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= observable, measurable description of  behavior (what does the behavior look lik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Identify the Context/Assistance Leve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= what type of cue (environment, materials, persons) will be provided to encourage the behavior and what level of independence must be achiev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Set Criterion Rate (rate and accuracy) =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w often will the behavior occur (rat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w precise or correct must the behavior be (accuracy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IDEA – Part B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13712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6 months to 22 years – children and youth special (Florida – usually, this begins with a DD labe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educational services (per IDEA) for students 2 – 22 years of 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-K in Florida – 3 to 5 or 6 years of 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sues related to C to B transition include: diagnostics, treatment determinations, eligible determin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941040" indent="-5065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 Department of Education – IDEA Part B &amp; Part C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idea.ed.gov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rly Steps/Children’s Medical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www.cms-kids.com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ional Center on Secondary Transition (NCSET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www.ncset.org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ional Dissemination Center for Children with Disabilities (NICHCY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www.nichcy.org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Moving from Part C to Part B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ferences between IFSP and IE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beling in the school system v/s diagnosis = eligibility iss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ch, where, how, who of service provision – lots of changes for famil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Transition from Pre-K – Facts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ll-u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ool-based label cha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vironmental cha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apeutic and intervention cha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uma for parent and stu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nse preparation necess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41144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9810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5ffff"/>
                </a:solidFill>
                <a:latin typeface="Tahoma"/>
              </a:rPr>
              <a:t>Transition to Kindergarten</a:t>
            </a:r>
            <a:br>
              <a:rPr sz="4800"/>
            </a:br>
            <a:r>
              <a:rPr b="1" i="1" lang="en-US" sz="4800" spc="-1" strike="noStrike">
                <a:solidFill>
                  <a:srgbClr val="e5ffff"/>
                </a:solidFill>
                <a:latin typeface="Tahoma"/>
              </a:rPr>
              <a:t>Helpful Website: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7620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ttp://www.fmhi.usf.edu/institute/pubs/pdf/cfs/fcpi/transition.ht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4" descr="MCBD07079_0000[1]"/>
          <p:cNvPicPr/>
          <p:nvPr/>
        </p:nvPicPr>
        <p:blipFill>
          <a:blip r:embed="rId1"/>
          <a:stretch/>
        </p:blipFill>
        <p:spPr>
          <a:xfrm>
            <a:off x="5943600" y="3835440"/>
            <a:ext cx="32004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Pre-K to K Transition Planning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191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udent-Centered Communication (Portfolio, Transition Book, CD/DV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acher to Teacher Inform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sessment, Identification, Intervention prepar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mily-based communic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ppropriate agency referrals and/or collabor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lorida’s Transition Project for Infants, Young Children and Their Famil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www.floridatransitionproject.ucf.edu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4" descr="MPj04309860000[1]"/>
          <p:cNvPicPr/>
          <p:nvPr/>
        </p:nvPicPr>
        <p:blipFill>
          <a:blip r:embed="rId1"/>
          <a:stretch/>
        </p:blipFill>
        <p:spPr>
          <a:xfrm>
            <a:off x="4495680" y="1219320"/>
            <a:ext cx="3733920" cy="2490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MPj04308400000[1]"/>
          <p:cNvPicPr/>
          <p:nvPr/>
        </p:nvPicPr>
        <p:blipFill>
          <a:blip r:embed="rId2"/>
          <a:stretch/>
        </p:blipFill>
        <p:spPr>
          <a:xfrm>
            <a:off x="4952880" y="3657600"/>
            <a:ext cx="396252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Continuity in Early Childhood: A Framework for Home, School, and Community Linkag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ed by the Regional Educational Laboratories’ Early Childhood Collaboration Net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nsored by: the Administration on Children, Youth, and Families, the US Dept. of Health &amp; Human Services, and the Office of Educational Research and Improvement – US Dept. of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www.terrifictransitions.org/Continuity%20in%20Early.pd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7:55:05Z</dcterms:created>
  <dc:creator>University Of Central Florida</dc:creator>
  <dc:description/>
  <dc:language>en-US</dc:language>
  <cp:lastModifiedBy>Gracejoy Hauser</cp:lastModifiedBy>
  <dcterms:modified xsi:type="dcterms:W3CDTF">2011-06-11T13:29:31Z</dcterms:modified>
  <cp:revision>91</cp:revision>
  <dc:subject/>
  <dc:title>School to Work Transition</dc:title>
</cp:coreProperties>
</file>